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9.jpeg" ContentType="image/jpe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13.png" ContentType="image/png"/>
  <Override PartName="/ppt/media/image36.wmf" ContentType="image/x-wmf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8128-64EC-44E6-9149-2A46662A3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m will introduce the unit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9825-74BE-42F2-97E6-EBEE83A7EA3A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1.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ity: Points , lines, and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ish up with 1.2-1.3 WBME 1.1, 1.2, 1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 1.4 – 1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SP l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8633-6723-4BDF-ADE8-23F1FEC55901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manipulate activity to answer questions from han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s:  tape, scissors, Plane M, Plane N, Acti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AD13-CC53-41FE-AE69-3124A467A50F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UAL:                   Geometry in your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STHETIC:          String Art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AL:                   Students will tell a story about the basic undefined terms in geometry using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terms from unit #1, minimum of 15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TEN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Students will create a crossword puzzle with at least 20 vocabulary  wo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list provided for unit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191D-3000-4D46-A554-3287659452AF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FBF7-996E-4FC9-AA0C-50490BA3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8BF-B51B-4B16-8550-CC0A7DC8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7AC-88F3-42AC-BAF9-524378ED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824A-4E06-405B-86C7-0E6025A4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DC3F1-C8F4-4B6B-9119-BB824394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3E1BD-10CC-4C52-9D9C-89D4ED32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480E9-A230-4E94-A7D8-1518933C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D028B-CC7F-4CB5-B234-1907E2C2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95ED2-04D2-4EFC-B038-DB068AD9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A1B7D-D84C-4C62-A11A-DF168BC4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E71CA-2021-481B-89E9-2620555E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31B-2A26-416A-B11F-10CA7CC6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1D756-C23A-431B-9AB7-EAB4BCB6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6D83E-BEB6-4601-A93C-879471A1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17E49-762A-4588-BC1F-7DB0C1C7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CD807-7727-4C05-822C-2A615CEF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CF9C1-B633-4C89-B455-E0F01A8F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1586D-5A09-411A-ACCF-6A294A78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2AA5F-BC94-4B9B-B773-3D6847A5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3FE9F-86A1-4A87-9D99-A8E574E3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92738-3F8E-4018-8253-F380ECE0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7E3EC-7A36-4E2C-BE3A-43953BCC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046-0C88-4D05-97C5-2EB32F5D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7AAF5-8D13-4B8A-BBFD-B9995CF3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A21D2-6553-46DC-8353-849511C9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84803-5980-4E8E-B562-14463B8D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FE2CD-A6FC-4451-AEAA-39953840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29F8D-49A9-4B4A-8501-4ACE3A7D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889D5-0D74-43D7-AF98-9413EAC1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485B9-2761-4E2F-A069-6197524F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D1A0E3-E675-4454-ABA8-722E38C2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139690-1F19-4DBF-ADEB-CE3D2172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1AC120-75A0-41EA-9EF5-49D25D4F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87D-86E9-431B-95E5-160C358B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ED35B9-8828-44A3-9036-182F704E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42428D-BD99-461A-9D11-6B4B1F73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8D2965-5138-49AB-B8DE-8691AF31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E8D5FA-5F3D-45D8-9EC8-43F62237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87526-5CC7-4876-9F3D-FCB6DB90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BCE9EF-4218-482F-A9D4-676C8B27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D68257-BF9C-4FFA-9334-47AF554F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51B8A9-EF8D-4B36-9C54-96A413F1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54DF03-0BA3-47A6-A045-7A24C9D8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0B8-CE1A-4DE1-B9B2-27F13339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488-22B1-4F84-BBF6-1479C0D0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C1E-9A91-4C8F-9852-E0035274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7B1-0AB0-43F2-83FB-14C9C878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9123-DC0A-4C3D-A061-E1145519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5092-7D11-43DC-BF20-B8A99783058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4FE6-CAE9-4D2B-8302-437C40563BA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6A84-9C08-4918-A8BE-69D82FD2340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2FE7-3650-4BD1-B7E0-D2299749BAC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209320" y="39625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RUSMP 2009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Learning Pla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Adam Jordan &amp; Anna Cedillo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774720" y="1749600"/>
            <a:ext cx="789948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98440" y="225360"/>
            <a:ext cx="8394840" cy="1231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1905120" cy="1914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3"/>
          <a:stretch/>
        </p:blipFill>
        <p:spPr>
          <a:xfrm>
            <a:off x="5334120" y="5791320"/>
            <a:ext cx="3263760" cy="533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276720" y="4876920"/>
            <a:ext cx="1780920" cy="1666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5"/>
          <a:stretch/>
        </p:blipFill>
        <p:spPr>
          <a:xfrm>
            <a:off x="533520" y="3962520"/>
            <a:ext cx="1590480" cy="1581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6"/>
          <a:stretch/>
        </p:blipFill>
        <p:spPr>
          <a:xfrm>
            <a:off x="6553080" y="3733920"/>
            <a:ext cx="2067120" cy="561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7"/>
          <a:stretch/>
        </p:blipFill>
        <p:spPr>
          <a:xfrm>
            <a:off x="685800" y="5715000"/>
            <a:ext cx="1219320" cy="3999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4"/>
          <p:cNvSpPr/>
          <p:nvPr/>
        </p:nvSpPr>
        <p:spPr>
          <a:xfrm>
            <a:off x="152280" y="32004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Pythagorean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 Theore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6324480" y="32004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c891"/>
                </a:solidFill>
                <a:latin typeface="Constantia"/>
              </a:rPr>
              <a:t>Midpoint formul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5410080" y="51814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cee6"/>
                </a:solidFill>
                <a:latin typeface="Constantia"/>
              </a:rPr>
              <a:t>Distance formul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57" name="Straight Arrow Connector 17"/>
          <p:cNvCxnSpPr/>
          <p:nvPr/>
        </p:nvCxnSpPr>
        <p:spPr>
          <a:xfrm flipV="1">
            <a:off x="533520" y="14472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sp>
        <p:nvSpPr>
          <p:cNvPr id="258" name="Text Box 14"/>
          <p:cNvSpPr/>
          <p:nvPr/>
        </p:nvSpPr>
        <p:spPr>
          <a:xfrm>
            <a:off x="609480" y="1676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s lesson will take groups of students through various GSP labs which will develop and connect the formulas below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Has six (6) lessons that deal with basic geometric terminology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298440" y="291960"/>
            <a:ext cx="8474040" cy="860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prism"/>
          <p:cNvPicPr/>
          <p:nvPr/>
        </p:nvPicPr>
        <p:blipFill>
          <a:blip r:embed="rId2"/>
          <a:stretch/>
        </p:blipFill>
        <p:spPr>
          <a:xfrm>
            <a:off x="7162920" y="5029200"/>
            <a:ext cx="1692000" cy="1295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intersect"/>
          <p:cNvPicPr/>
          <p:nvPr/>
        </p:nvPicPr>
        <p:blipFill>
          <a:blip r:embed="rId3"/>
          <a:stretch/>
        </p:blipFill>
        <p:spPr>
          <a:xfrm>
            <a:off x="5562720" y="4038480"/>
            <a:ext cx="1874880" cy="914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plane"/>
          <p:cNvPicPr/>
          <p:nvPr/>
        </p:nvPicPr>
        <p:blipFill>
          <a:blip r:embed="rId4"/>
          <a:stretch/>
        </p:blipFill>
        <p:spPr>
          <a:xfrm>
            <a:off x="3124080" y="3962520"/>
            <a:ext cx="1524240" cy="1439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labeling lines"/>
          <p:cNvPicPr/>
          <p:nvPr/>
        </p:nvPicPr>
        <p:blipFill>
          <a:blip r:embed="rId5"/>
          <a:stretch/>
        </p:blipFill>
        <p:spPr>
          <a:xfrm>
            <a:off x="3048120" y="2362320"/>
            <a:ext cx="1371600" cy="1261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angbisect1"/>
          <p:cNvPicPr/>
          <p:nvPr/>
        </p:nvPicPr>
        <p:blipFill>
          <a:blip r:embed="rId6"/>
          <a:stretch/>
        </p:blipFill>
        <p:spPr>
          <a:xfrm>
            <a:off x="1066680" y="4267080"/>
            <a:ext cx="1447920" cy="1271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ongruent segments"/>
          <p:cNvPicPr/>
          <p:nvPr/>
        </p:nvPicPr>
        <p:blipFill>
          <a:blip r:embed="rId7"/>
          <a:stretch/>
        </p:blipFill>
        <p:spPr>
          <a:xfrm>
            <a:off x="5257800" y="2209680"/>
            <a:ext cx="1943280" cy="914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adjangle1"/>
          <p:cNvPicPr/>
          <p:nvPr/>
        </p:nvPicPr>
        <p:blipFill>
          <a:blip r:embed="rId8"/>
          <a:stretch/>
        </p:blipFill>
        <p:spPr>
          <a:xfrm>
            <a:off x="838080" y="2438280"/>
            <a:ext cx="1765440" cy="1319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vertangle1"/>
          <p:cNvPicPr/>
          <p:nvPr/>
        </p:nvPicPr>
        <p:blipFill>
          <a:blip r:embed="rId9"/>
          <a:stretch/>
        </p:blipFill>
        <p:spPr>
          <a:xfrm>
            <a:off x="5105520" y="5181480"/>
            <a:ext cx="187488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idpt formula"/>
          <p:cNvPicPr/>
          <p:nvPr/>
        </p:nvPicPr>
        <p:blipFill>
          <a:blip r:embed="rId10"/>
          <a:stretch/>
        </p:blipFill>
        <p:spPr>
          <a:xfrm>
            <a:off x="1143000" y="5791320"/>
            <a:ext cx="3429000" cy="525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dist formula"/>
          <p:cNvPicPr/>
          <p:nvPr/>
        </p:nvPicPr>
        <p:blipFill>
          <a:blip r:embed="rId11"/>
          <a:stretch/>
        </p:blipFill>
        <p:spPr>
          <a:xfrm>
            <a:off x="4876920" y="3276720"/>
            <a:ext cx="3595680" cy="380880"/>
          </a:xfrm>
          <a:prstGeom prst="rect">
            <a:avLst/>
          </a:prstGeom>
          <a:ln w="0">
            <a:noFill/>
          </a:ln>
        </p:spPr>
      </p:pic>
      <p:cxnSp>
        <p:nvCxnSpPr>
          <p:cNvPr id="191" name="Straight Arrow Connector 14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Title 1" descr=""/>
          <p:cNvPicPr/>
          <p:nvPr/>
        </p:nvPicPr>
        <p:blipFill>
          <a:blip r:embed="rId1"/>
          <a:stretch/>
        </p:blipFill>
        <p:spPr>
          <a:xfrm>
            <a:off x="334800" y="176040"/>
            <a:ext cx="8491680" cy="1354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7200" y="1828440"/>
            <a:ext cx="4059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lesson introduces students to the undefined terms – point, line, &amp; plan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gment, endpoint, ray, and opposite rays are also introduced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7960" y="1828440"/>
            <a:ext cx="4059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CTIVITY used to evaluate student ability to differentiate between geometric concepts while using the Plane Activ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95" name="Straight Arrow Connector 6"/>
          <p:cNvCxnSpPr/>
          <p:nvPr/>
        </p:nvCxnSpPr>
        <p:spPr>
          <a:xfrm flipV="1">
            <a:off x="533520" y="16002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196" name="Picture 0" descr="Intersecting planes M &amp; N (1).JPG"/>
          <p:cNvPicPr/>
          <p:nvPr/>
        </p:nvPicPr>
        <p:blipFill>
          <a:blip r:embed="rId2"/>
          <a:stretch/>
        </p:blipFill>
        <p:spPr>
          <a:xfrm>
            <a:off x="5486400" y="4495680"/>
            <a:ext cx="27558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219240" y="450720"/>
            <a:ext cx="8474040" cy="927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304920" y="1523520"/>
            <a:ext cx="4287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isu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ometry in Your Worl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7960" y="1523520"/>
            <a:ext cx="4059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inestheti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ring A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Content Placeholder 8" descr="DSC01500.JPG"/>
          <p:cNvPicPr/>
          <p:nvPr/>
        </p:nvPicPr>
        <p:blipFill>
          <a:blip r:embed="rId2"/>
          <a:stretch/>
        </p:blipFill>
        <p:spPr>
          <a:xfrm>
            <a:off x="5562720" y="4495680"/>
            <a:ext cx="1600200" cy="1981440"/>
          </a:xfrm>
          <a:prstGeom prst="rect">
            <a:avLst/>
          </a:prstGeom>
          <a:ln w="0">
            <a:noFill/>
          </a:ln>
        </p:spPr>
      </p:pic>
      <p:pic>
        <p:nvPicPr>
          <p:cNvPr id="201" name="Content Placeholder 9" descr="DSC01569.JPG"/>
          <p:cNvPicPr/>
          <p:nvPr/>
        </p:nvPicPr>
        <p:blipFill>
          <a:blip r:embed="rId3"/>
          <a:stretch/>
        </p:blipFill>
        <p:spPr>
          <a:xfrm rot="9239400">
            <a:off x="5395680" y="2476080"/>
            <a:ext cx="1527120" cy="1333440"/>
          </a:xfrm>
          <a:prstGeom prst="rect">
            <a:avLst/>
          </a:prstGeom>
          <a:ln w="0">
            <a:noFill/>
          </a:ln>
        </p:spPr>
      </p:pic>
      <p:pic>
        <p:nvPicPr>
          <p:cNvPr id="202" name="Content Placeholder 9" descr="DSC01569.JPG"/>
          <p:cNvPicPr/>
          <p:nvPr/>
        </p:nvPicPr>
        <p:blipFill>
          <a:blip r:embed="rId4"/>
          <a:stretch/>
        </p:blipFill>
        <p:spPr>
          <a:xfrm>
            <a:off x="7238880" y="3352680"/>
            <a:ext cx="1506600" cy="2008440"/>
          </a:xfrm>
          <a:prstGeom prst="rect">
            <a:avLst/>
          </a:prstGeom>
          <a:ln w="0">
            <a:noFill/>
          </a:ln>
        </p:spPr>
      </p:pic>
      <p:pic>
        <p:nvPicPr>
          <p:cNvPr id="203" name="Content Placeholder 9" descr="DSC01569.JPG"/>
          <p:cNvPicPr/>
          <p:nvPr/>
        </p:nvPicPr>
        <p:blipFill>
          <a:blip r:embed="rId5"/>
          <a:stretch/>
        </p:blipFill>
        <p:spPr>
          <a:xfrm rot="19113600">
            <a:off x="7118280" y="1802880"/>
            <a:ext cx="1497240" cy="1122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6"/>
          <a:stretch/>
        </p:blipFill>
        <p:spPr>
          <a:xfrm rot="21380400">
            <a:off x="539640" y="27493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7"/>
          <a:stretch/>
        </p:blipFill>
        <p:spPr>
          <a:xfrm>
            <a:off x="2438280" y="2438280"/>
            <a:ext cx="1562400" cy="2133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8"/>
          <a:stretch/>
        </p:blipFill>
        <p:spPr>
          <a:xfrm rot="20355600">
            <a:off x="658440" y="4155840"/>
            <a:ext cx="1846440" cy="1760400"/>
          </a:xfrm>
          <a:prstGeom prst="rect">
            <a:avLst/>
          </a:prstGeom>
          <a:ln w="0">
            <a:noFill/>
          </a:ln>
        </p:spPr>
      </p:pic>
      <p:cxnSp>
        <p:nvCxnSpPr>
          <p:cNvPr id="207" name="Straight Arrow Connector 11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208" name="Picture 12" descr=""/>
          <p:cNvPicPr/>
          <p:nvPr/>
        </p:nvPicPr>
        <p:blipFill>
          <a:blip r:embed="rId9"/>
          <a:stretch/>
        </p:blipFill>
        <p:spPr>
          <a:xfrm rot="797400">
            <a:off x="3015720" y="4578120"/>
            <a:ext cx="15987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219240" y="450720"/>
            <a:ext cx="8474040" cy="927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04920" y="1523880"/>
            <a:ext cx="4287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ritte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reating a crossword puzzle with minimum of 20 word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7960" y="1523520"/>
            <a:ext cx="4059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erb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ll a story about the undefined terms in Geometry and how everything can relate back to these terms.  Must use minimum of 15 word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12" name="Straight Arrow Connector 11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213" name="Picture 5" descr="DSC03359.JPG"/>
          <p:cNvPicPr/>
          <p:nvPr/>
        </p:nvPicPr>
        <p:blipFill>
          <a:blip r:embed="rId2"/>
          <a:stretch/>
        </p:blipFill>
        <p:spPr>
          <a:xfrm>
            <a:off x="6248520" y="4648320"/>
            <a:ext cx="2235240" cy="1676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3"/>
          <a:stretch/>
        </p:blipFill>
        <p:spPr>
          <a:xfrm>
            <a:off x="2514600" y="3505320"/>
            <a:ext cx="2057400" cy="990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"/>
          <p:cNvPicPr/>
          <p:nvPr/>
        </p:nvPicPr>
        <p:blipFill>
          <a:blip r:embed="rId4"/>
          <a:stretch/>
        </p:blipFill>
        <p:spPr>
          <a:xfrm>
            <a:off x="2666880" y="4648320"/>
            <a:ext cx="1755720" cy="860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"/>
          <p:cNvPicPr/>
          <p:nvPr/>
        </p:nvPicPr>
        <p:blipFill>
          <a:blip r:embed="rId5"/>
          <a:stretch/>
        </p:blipFill>
        <p:spPr>
          <a:xfrm>
            <a:off x="533520" y="3581280"/>
            <a:ext cx="1828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457200" y="2057400"/>
            <a:ext cx="4059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introduction of the Segment Addition Postulate is crucial to the understanding of solving for  unknown values .  The difference between “midpoint” and “between” arises in this less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19" name="Straight Arrow Connector 5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sp>
        <p:nvSpPr>
          <p:cNvPr id="220" name="Rectangle 5"/>
          <p:cNvSpPr/>
          <p:nvPr/>
        </p:nvSpPr>
        <p:spPr>
          <a:xfrm>
            <a:off x="4800600" y="182880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Distanc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i="1" lang="en-US" sz="3200" spc="-1" strike="noStrike">
                <a:solidFill>
                  <a:srgbClr val="f3a447"/>
                </a:solidFill>
                <a:latin typeface="Constanti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Constantia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– </a:t>
            </a:r>
            <a:r>
              <a:rPr b="0" i="1" lang="en-US" sz="3200" spc="-1" strike="noStrike">
                <a:solidFill>
                  <a:srgbClr val="f3a447"/>
                </a:solidFill>
                <a:latin typeface="Constantia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Constantia"/>
              </a:rPr>
              <a:t>|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or |</a:t>
            </a:r>
            <a:r>
              <a:rPr b="0" i="1" lang="en-US" sz="3200" spc="-1" strike="noStrike">
                <a:solidFill>
                  <a:srgbClr val="f3a447"/>
                </a:solidFill>
                <a:latin typeface="Constanti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- </a:t>
            </a: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|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135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4086360" cy="12956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1"/>
          <p:cNvSpPr/>
          <p:nvPr/>
        </p:nvSpPr>
        <p:spPr>
          <a:xfrm>
            <a:off x="48006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Betwee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5867280" y="5664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8534520" y="5740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352680" y="5664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114800" y="5740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+ 6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6934320" y="5753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7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– 9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3505320" y="6248520"/>
            <a:ext cx="518148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6019920" y="613584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1295280" y="5867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Midpoin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160" y="190512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gle Addition Postulate allows students to work with angles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aming angles and measures of an angle is discussed in this sect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ypes of angles such as acute angle, right angle, obtuse angles and straight angles are part of this less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33" name="Straight Arrow Connector 4"/>
          <p:cNvCxnSpPr/>
          <p:nvPr/>
        </p:nvCxnSpPr>
        <p:spPr>
          <a:xfrm flipV="1">
            <a:off x="533520" y="16002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2944800" cy="1873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257800" y="4114800"/>
            <a:ext cx="28861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2057040"/>
            <a:ext cx="4059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ce the basics of points, lines, planes, angles, etc have been established, we dive deeper with angles by using the computer with Geometer Sketchpa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38" name="Straight Arrow Connector 4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5119560" y="2746440"/>
            <a:ext cx="3114720" cy="2354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4419720" y="1828800"/>
            <a:ext cx="4190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SP lab # 11 vertical ang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5257800" y="4267080"/>
            <a:ext cx="1676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Observations: No matter where the points move the vertical angles have the same measure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19240" y="36360"/>
            <a:ext cx="8474040" cy="1494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 rot="1974600">
            <a:off x="6875280" y="1854360"/>
            <a:ext cx="790560" cy="1419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3"/>
          <a:stretch/>
        </p:blipFill>
        <p:spPr>
          <a:xfrm>
            <a:off x="6324480" y="3962520"/>
            <a:ext cx="2365560" cy="2209680"/>
          </a:xfrm>
          <a:prstGeom prst="rect">
            <a:avLst/>
          </a:prstGeom>
          <a:ln w="0">
            <a:noFill/>
          </a:ln>
        </p:spPr>
      </p:pic>
      <p:sp>
        <p:nvSpPr>
          <p:cNvPr id="245" name="Content Placeholder 3"/>
          <p:cNvSpPr/>
          <p:nvPr/>
        </p:nvSpPr>
        <p:spPr>
          <a:xfrm>
            <a:off x="609480" y="1676520"/>
            <a:ext cx="5562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ow that students are familiar with GSP, they will explore different topics in groups then share their results with the cla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Formulas included in this section includ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Area and perimeter of a rectang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Area and perimeter of a squar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Area and perimeter of a triang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Area  and Circumference of a circ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46" name="Straight Arrow Connector 17"/>
          <p:cNvCxnSpPr/>
          <p:nvPr/>
        </p:nvCxnSpPr>
        <p:spPr>
          <a:xfrm flipV="1">
            <a:off x="380520" y="1523880"/>
            <a:ext cx="815436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8T01:39:40Z</dcterms:created>
  <dc:creator>BONESY</dc:creator>
  <dc:description/>
  <dc:language>en-US</dc:language>
  <cp:lastModifiedBy>teacher</cp:lastModifiedBy>
  <dcterms:modified xsi:type="dcterms:W3CDTF">2009-06-29T22:20:56Z</dcterms:modified>
  <cp:revision>12</cp:revision>
  <dc:subject/>
  <dc:title>Introduction to Geometry                   Unit #1</dc:title>
</cp:coreProperties>
</file>